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987-89D8-43AE-9D8F-F0AC76D4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E6B-A302-46CD-A25B-7A4E66BD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DD290-EB06-40F3-9A21-38DB56D3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E879E-8273-4B42-A44F-26E8D315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4782F-5CC9-47EB-8E80-402B745A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91E20-5C18-4F46-8F5E-10D637F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48007-F844-4B2C-98BE-85EC71B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431F8-DDEB-4789-AF09-DA15284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76311-CD15-4801-BAB8-60AB199B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00535-F1CD-46DB-9399-FE170A08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8E7A4-33EE-445D-B0EA-DE21A1E6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FB8CB-5248-4128-9A23-9787355A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F59-F608-46E1-85D1-CAF6F0C7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52CBA-3BAF-4FF0-81C1-577DC5B1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64F4-DB1D-46B8-961D-CD4993DC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10A9A-59A8-4FDD-8643-6C5D6AFF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FB080-ADDA-43D7-9BD5-726D70E8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5353D-50B1-415C-90E6-411522A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70BD0-B3DB-46EC-A8C0-51E95A2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7E7C9-68AD-46AF-94FA-99347655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F5717-583A-4D43-8C6D-2229DB3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5E277-2186-468C-B528-F0109EF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B4328-9D9A-42F9-B2FF-2E502D02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9FD-187B-45E1-8432-138A3058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98F97-35F4-420E-A83D-8B00AEED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2F298-FE3D-4032-AE07-CE7A21CF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1950A-89F4-4BFD-A15F-9C97281B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C966-EFF7-49CF-9337-2EE8BF3B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5A13C-9CB1-43FC-A6E7-B22E870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F5E21-C1C0-4C0B-A305-00B8D1E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31438-E477-49F8-9112-404CE21F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985B8-8E2E-4AAC-9A28-967A49A7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5325F-0088-4CD0-B21B-143F434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E5B0D-757F-417D-8E3E-7D6365FB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4E53-1EB9-4237-AA6D-3232EC3E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CD9FB-39BD-4D9F-82DA-6F571579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93E15-AC84-4D96-A67C-1906E2C6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1AD50-4054-4BEC-8620-BE4B1754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3ABB5-EB12-4D9F-AA11-E5417383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10864-76B6-47F7-AC65-151392AD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94D40-A3C8-40FC-AB07-EE09456E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48190-CB7C-40AF-8183-E295F796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26FF8-2D14-4973-AF9F-4792D432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AAFAE-3CC3-4D34-8B09-B546FABA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27A9A-9EED-49C2-A494-7454B1A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C4D7-5F6F-413B-BF37-74BCB7A8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475E9-A415-4BAB-9E22-44181E6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30534-E6A8-4A9C-94E5-ACD48EE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BDFB7-8E7D-42D1-A38A-C6CF24B3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9EF3C-6BB6-4A11-9FDC-71A08480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FD6B7-9F5C-4933-998F-EBAF3E44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E9127-FA01-4341-9064-B530B1D9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32137-139A-4958-ADA9-EB783351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E624A-FE11-4FA5-A0A1-F70EB32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63A70-5AB3-4111-B563-AB7818B4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7FB6A-CB10-4980-8857-62DDF117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B5A4-6D48-4F91-BFEF-5E5AC764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07855-D53B-4F21-BD33-E6623D9C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99875-E189-4045-A3ED-1477769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CF41D-25F5-4C01-8D83-F9D8B59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C80D1-C408-414A-9C74-0D4BFC7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454E6-370F-49FA-8CFC-C0F89C7A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2E536-BCE8-49B3-B98B-C88A62AE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D91F6-F887-40EF-ABFC-6C8601A1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6AD6C-AF3E-44F0-A3E9-D8B70D2C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B5444-157E-4833-8547-D539709B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68E53-9C1C-4C02-A0F0-09F9166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DE2A-57C6-49EA-A02F-16929E83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F2A91-2A6D-44A1-9D38-FE698474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C54CA-3119-41F9-B12B-BD8BA10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B8A92-3468-4D88-B04B-CC3D24F8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FC200-63B0-414E-A297-51FFF30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256E5-0600-47BB-BDBF-D317B35D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C1BD5-432C-41B1-8F9B-F47FC95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1C7A5-69F6-4B2D-A5D7-C6847145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0BA88-2239-4DBD-B9E0-AC026CA4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2D2B8-066C-4D4E-B93A-85803260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9D58C-EB1C-4457-982F-74B6A644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145D-0E45-4AF4-A1F1-2742AD86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CD7E9-DDFF-4DC6-BDC6-68EA7FB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AA3D7-3253-4401-808B-4D7B4A8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E9E46-B06A-429A-B502-DFD6DF54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3BFBE-BF7E-4E98-85CB-41E024C3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B5207-FAE7-40D6-B88C-1907F67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A88A7-CBDA-48B6-A96C-E9E393B3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DEA5C-85AA-4732-BA02-AF3F01E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9A1A8-DAF2-4175-89A3-0B4D09F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F5A75-CB6E-4300-987D-3CB11424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501DC-3B1A-4872-AB84-E14F4319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36EC-C448-4D5E-8342-83009E92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A82DB-7E14-47D8-8E0B-16406F06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F4F2D-10CC-433D-8CE1-E1B98A22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9C3B1-2477-4229-90E7-54C2A3FD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9D87F-24FA-444C-9518-72ABB571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EEC63-4A67-43CA-BDE9-FA0B9924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A104C-AF77-47F0-A114-9758281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C65FC-1F58-4047-830F-90C33EDC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FA916-B885-4C09-BF3F-3FDC575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1F84E-C616-41A1-B68A-312AFF0B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86F36-9A6D-4356-AF36-EC7DB4BD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7A26-A185-415A-9278-5E7A56A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EA881-6544-4DED-921A-ACA364B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F62E8-EB29-442A-9ECE-6C435DFF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0D7F2-8E26-419F-9D8E-B749FCE9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102FA-7F64-4ACB-BA44-88A98022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CFF12-51C6-4F30-805C-DE5F73A9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1190A-8B60-467F-8C7E-6E8A7F48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A69CB-4D98-4553-9DBB-1A0790C5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F9A72-259A-4CAD-A73C-16A4DA31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F81EF-452F-4CC2-BE8F-801C2CF0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EA728-AE17-49C1-9C96-FFA546C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CA7-7E4E-436F-B361-1A7CAFE2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4204-79FB-444F-A53B-FA12164A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BD61E-C0D1-4433-9C1C-7B5E7D1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0481C-C1BD-4B14-9DBB-4B4FD76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9B9CC-A664-42CA-8F53-6BE3024A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06DEAE-02BE-43F6-99CA-5AA9765D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96074-4EA7-4B14-B58B-6E4D6B84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0C516-9D27-49C6-9460-E0CE545C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F066A-EDDC-4827-817A-46A9E6FE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61C97-0BE7-423A-9718-0F3F92D1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2AE5F-8195-4086-8E8E-C162C355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48609-CD14-4752-8FD0-E8B219A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AA73-C12B-481A-8403-67B640F8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10985-3077-4782-9FD1-B69772C7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56604-5C6C-4911-B78C-99A45114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F3C58-DC5C-498E-B90E-5B0AD13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48764-5E6E-4AF5-A59F-E9BB4A0D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94A45-F73A-4DFA-872D-6568731B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3DB60-CEAE-4ED4-AE6C-E53D4164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753F6-2810-4740-9A2B-96D4CB81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D5920-4151-4E8C-BAFD-6828442D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93B51-2522-4ED8-A3BE-03BA5A3C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4695A-9020-400C-B3AF-472F904D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D667-5CB5-4B96-A6A7-21B2AE3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182B1-0C5D-4264-BF01-18E2B67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B3472F-5FA3-4F87-9EB2-27F07BD6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6F0FC-DC0D-4E7E-8F38-F00875E5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83EA5-335B-4020-A2EB-63A6CA5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09F03-D0CE-46EE-933B-92741768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7E0E7-AC21-4222-9D2C-6A5C050D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A8ECB-6A27-451E-B65D-E3DF76A2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68286-BC7A-4AA0-A802-3F973EB3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B60D6-3F2E-4F4D-99FC-FC75F724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BD092-EA9F-4CD5-AE98-83B14EA6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421-3D57-4D88-9F0D-C3D13579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BFA7E8-8116-4667-9476-46C66552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6BDAF7-B35D-474B-BA20-1441D0A7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DB66EA-EA9D-4ADA-98B1-B5E58EEA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D4F74-FE5F-4947-9AD2-77F587F1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E266B0-B5EF-40B8-B1EA-49A79D12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D29A0D-8A07-4735-AAD6-36EF25A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073AE-241A-4304-ACC2-3A856168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D5669-403D-41A6-A77F-40721FF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3B937-FB21-4EA3-90EA-4C476719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E0267-EF9D-4591-9240-C95850AC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082E-FE88-4D97-9664-47AF1B2C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88434-E4A9-4F7E-BD66-92A6B644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985763-BE8E-432B-8662-AEA2678C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5FEFF-DF47-40A2-8F0E-5EF85909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C960E-9450-42A4-91EA-D957DA30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280B7-A127-497C-A11E-85C5E7A3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94418-39CC-4D26-A8BF-074A6D04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E1FEE-A046-4ADE-8AF1-6FF471CB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853C0-7BA5-4AE8-9B55-0493991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0169A-8EED-410B-AEAB-58FD1DE6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DA354-26C1-4B81-B5F4-0B83843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2032-EB8C-41E3-BBB6-D57A1BFF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A1955-21C8-435A-A819-28931972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178E5-C068-4CF0-B6CF-B6A7797E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42793-BB36-4AB2-B696-DBB4A82C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C2CF-6C5C-4335-A7FF-4B551B4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4C07-6483-4F40-B68A-7163F739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EB24-BD8B-42D7-AC4A-4B73AEFE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3154-2586-42BB-99A4-FF25F382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D24-81B2-41C8-BB89-3A7DB06D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5EEB-4681-4734-AFF0-EA689D75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1588-02B3-4914-B802-1B60230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A437-69A9-401F-B509-4977CC7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6C7B-4E33-44C7-A12B-C52E0E3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4772-519F-40C2-A43F-C547A0E5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1148-9423-49FA-A4F7-72C11619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E074-3109-4247-9DB5-FA66FF9E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5DFD-F23E-48BB-A0F0-FC4BE8EA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E923-DDC0-43FB-9589-17617E43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41AAA-B439-4039-97A0-38375E53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8C6-7524-4771-9674-9EF5ED5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F7DC-2B70-476A-9995-8CBAC9C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7C2B-4908-44AD-995E-6EE6B900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EB88-805C-4695-BFA9-FE7554E5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225A-1D7E-4256-B501-F170F5F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9DF3-9894-4828-A343-038CEDC7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16B2A-B447-46C7-9DC6-97E88DC7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9926-F82E-4EE5-A875-7B4D4886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B71A-CD2F-42B0-9210-37496625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7A36-CDF9-4D6A-B932-1AE53F31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535B-3156-4386-8328-E3B8F394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59C-ED5F-4956-9CAA-C9DD1D2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AC81B-1954-4277-9A11-1A574D9F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4041C-8FFA-4E1E-95B8-8E414991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7624F-9AD4-40F3-8188-ACF6697D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F54F3-1630-41AA-A37D-E36D61C4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4FAAC-60D2-4BFF-AF5A-A2B9D0C5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9411-9616-44B7-9819-D1194909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AD05-8D39-4F8B-97DD-2854382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49BE2-57FE-4CEA-B2A3-C13CE0C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774F1-2A65-4634-8FEC-62967F2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2AE2-C4A1-445E-8608-CC1B0E9C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41E-8CF6-4FBD-A4F3-F7F9E92A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7AD9-2092-4E2F-97B8-85DA701F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D2AA-D599-4530-858B-7F01B67B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1F29B-BAC6-4876-9E7A-57B41782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6470-F862-4FBE-AE6E-BC9F4A19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28EA1-8A0E-4390-8BF7-D7B21749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A6A5A-BD11-4B55-9DD8-6B05CAE7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F48D7-ECE4-46D5-A963-80EC3FF8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DEFE-7062-4389-B606-2359EF7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11EC-274B-41A7-921C-A771E1F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F083-7A15-4ACA-91DB-C1ED2643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DDF-EFA8-4387-9EDF-5F690011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134E9-E0CD-4919-8D7B-57FFF783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BC209-44C1-4E0A-8B62-00AB2D79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A01A5-E00C-469A-8EBD-B8CD8458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14D51-212B-42B2-87E1-AD659116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2E42B-0DCB-464E-B1D6-75A9546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E2F58-2A27-488E-B405-63EA55B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6F6F-133E-4F66-A2B1-C3286CAD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5725-D6B7-4736-A19B-72DDC93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4D991-FDCD-49B4-9148-8D8C1E2A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5682E-CA8C-4A86-B661-B75B2421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21D-197B-4EF1-A195-805B9EF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E0CB9-241F-41E6-8607-860D23F7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740AF-F1F4-4FDC-9CC6-42935F9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ABD01-1677-488A-8FBB-4692623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54215-2385-4085-8FF7-7D5A8213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62CB0-1E42-48C8-B0D3-47C241FC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B541B-A9F2-4FCC-A29F-C55FB695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0689-4EAA-4681-98D5-3004564F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FD23-A749-480A-920A-F5DEE664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90D6-39CA-4733-ABEE-6E286465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B8A5-1103-404E-B591-D566FD44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82F-6B61-44A8-9E1D-E3F6633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9CAF1-F528-4E53-8C72-7F0786F9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2F177-3B02-4256-A2A4-E2C599A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0050-B47B-42C8-A2D7-140D0A86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5C9F-2E96-4F82-8BF3-8727C765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D181D-8566-4B2A-A1B5-05061FA6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21BFA-ED4C-4875-B962-343FD769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999C1-EB8A-4BEF-8B47-3C8A8BE9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CBB46-BCD1-4AA2-BC82-25AC052E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15BAE-7F30-4DEF-882F-0C3D55D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823BA-B3E9-451B-8431-222B0430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6AA0-9F54-4E79-B3C3-656035C0B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B333-1592-4BCD-AC61-04E99EAE5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91E4-D8CB-40AA-A39B-6A812F043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6016-2014-43DB-837A-B5D406984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676B-DFD9-4236-BC83-43130961E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791B-ADB8-40AF-A4C2-D79BB06E8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31CC-930E-4F62-A4D9-DCC1228CDB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2D0D-335F-4109-AF3F-A708A24FC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7689-EAE7-419D-BDAA-1459F9EE4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E7D5-7DA7-4DAC-976B-89821FAC3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9BB0-8712-4D0B-BB42-7F8B7ED42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D477-23AD-4A86-9C58-CF6B6E4914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58D2-2FB1-413D-97B4-31C9EFEDE3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8FA8-C14C-4E75-B1C6-799272476A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6D9B-F4A1-49A0-BF7D-CC312E049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2F5B-174E-4FA5-9281-366867D8A6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B71-B6CC-40A5-A003-BB550F6CA9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345C-47F9-4FF4-A289-BA0B670FF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FE9B-4F56-487C-BA41-F1825049B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11ED-6FC3-44C8-B1B2-65E079807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594C-D699-4A8D-ABCE-15A1B50F4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BED1-75FC-4369-A0B7-CF17466C4A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83FF-1AEA-40F7-9BBD-437053C45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D7EA-7090-47C1-8EBE-684A6179E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7BEF-7864-4DA6-B49C-CC9624468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6B9A-E21D-4EEB-84EB-EE277B230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1646-D08A-4975-BE3F-330B7AA17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A2AA-9AA6-41A6-8D72-4B0BC7B41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64CD-EB00-439B-965D-4AD491BDAF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8871-EB3B-44B0-9524-2B59655E1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44CC-04C4-4BC8-B570-4810D66328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2E65-BAC9-476C-9501-A4B8909EA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182F-9E5D-4C85-8025-B2CBE80D6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E8E2-32DD-4E81-9E26-DF2ADE2A8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A1D-F525-4FE2-880D-B31F47FF6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3AC5-E13C-492A-B80F-BC4F16A84E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68A-C10C-4C33-8EEA-387DC6371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E6FF-7A57-4005-ACAA-489A6285A4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08B0-087F-4935-A68C-4F17E3A9CA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D7A0-D03E-4EBF-B23F-378441206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57600" y="1819440"/>
            <a:ext cx="3628800" cy="9619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786040" y="3041640"/>
            <a:ext cx="3571920" cy="81900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3" descr=""/>
          <p:cNvPicPr/>
          <p:nvPr/>
        </p:nvPicPr>
        <p:blipFill>
          <a:blip r:embed="rId3"/>
          <a:stretch/>
        </p:blipFill>
        <p:spPr>
          <a:xfrm>
            <a:off x="1133640" y="3944880"/>
            <a:ext cx="68767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1" name="图片 1" descr=""/>
          <p:cNvPicPr/>
          <p:nvPr/>
        </p:nvPicPr>
        <p:blipFill>
          <a:blip r:embed="rId1"/>
          <a:stretch/>
        </p:blipFill>
        <p:spPr>
          <a:xfrm>
            <a:off x="352440" y="1357200"/>
            <a:ext cx="8439120" cy="41436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900000" y="2722680"/>
            <a:ext cx="302436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5796000" y="2708280"/>
            <a:ext cx="129708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1835280" y="4854600"/>
            <a:ext cx="5041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423720" y="1338120"/>
            <a:ext cx="8294760" cy="4181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2700360" y="2722680"/>
            <a:ext cx="266364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826920" y="48261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5"/>
          <a:stretch/>
        </p:blipFill>
        <p:spPr>
          <a:xfrm>
            <a:off x="2484360" y="4826160"/>
            <a:ext cx="3167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4" name="图片 1" descr=""/>
          <p:cNvPicPr/>
          <p:nvPr/>
        </p:nvPicPr>
        <p:blipFill>
          <a:blip r:embed="rId1"/>
          <a:stretch/>
        </p:blipFill>
        <p:spPr>
          <a:xfrm>
            <a:off x="31680" y="1697040"/>
            <a:ext cx="9080640" cy="34653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2"/>
          <a:stretch/>
        </p:blipFill>
        <p:spPr>
          <a:xfrm>
            <a:off x="2484360" y="33433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3"/>
          <a:stretch/>
        </p:blipFill>
        <p:spPr>
          <a:xfrm>
            <a:off x="6732720" y="33433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4"/>
          <a:stretch/>
        </p:blipFill>
        <p:spPr>
          <a:xfrm>
            <a:off x="2484360" y="42782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5"/>
          <a:stretch/>
        </p:blipFill>
        <p:spPr>
          <a:xfrm>
            <a:off x="6732720" y="4264200"/>
            <a:ext cx="57600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1" name="图片 1" descr=""/>
          <p:cNvPicPr/>
          <p:nvPr/>
        </p:nvPicPr>
        <p:blipFill>
          <a:blip r:embed="rId1"/>
          <a:stretch/>
        </p:blipFill>
        <p:spPr>
          <a:xfrm>
            <a:off x="504720" y="1500120"/>
            <a:ext cx="8134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30" name="组合 4101"/>
          <p:cNvGrpSpPr/>
          <p:nvPr/>
        </p:nvGrpSpPr>
        <p:grpSpPr>
          <a:xfrm>
            <a:off x="95400" y="115920"/>
            <a:ext cx="8953200" cy="6545160"/>
            <a:chOff x="95400" y="115920"/>
            <a:chExt cx="8953200" cy="6545160"/>
          </a:xfrm>
        </p:grpSpPr>
        <p:pic>
          <p:nvPicPr>
            <p:cNvPr id="1031" name="图片 1" descr=""/>
            <p:cNvPicPr/>
            <p:nvPr/>
          </p:nvPicPr>
          <p:blipFill>
            <a:blip r:embed="rId2"/>
            <a:stretch/>
          </p:blipFill>
          <p:spPr>
            <a:xfrm>
              <a:off x="95400" y="115920"/>
              <a:ext cx="8953200" cy="45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图片 2" descr=""/>
            <p:cNvPicPr/>
            <p:nvPr/>
          </p:nvPicPr>
          <p:blipFill>
            <a:blip r:embed="rId3"/>
            <a:stretch/>
          </p:blipFill>
          <p:spPr>
            <a:xfrm>
              <a:off x="755640" y="5013360"/>
              <a:ext cx="8210520" cy="16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187280" y="9079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5292720" y="9079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111600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5364000" y="2852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223920" y="1809720"/>
            <a:ext cx="8694720" cy="32385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2050920" y="2622600"/>
            <a:ext cx="122580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6948360" y="2622600"/>
            <a:ext cx="122580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2411280" y="3227400"/>
            <a:ext cx="122580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7380360" y="3241800"/>
            <a:ext cx="122544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2627280" y="38606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7"/>
          <a:stretch/>
        </p:blipFill>
        <p:spPr>
          <a:xfrm>
            <a:off x="7380360" y="3860640"/>
            <a:ext cx="122544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8"/>
          <a:stretch/>
        </p:blipFill>
        <p:spPr>
          <a:xfrm>
            <a:off x="2627280" y="450864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9"/>
          <a:stretch/>
        </p:blipFill>
        <p:spPr>
          <a:xfrm>
            <a:off x="7380360" y="4494240"/>
            <a:ext cx="1225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19080" y="890640"/>
            <a:ext cx="9105840" cy="50767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666720" y="1285920"/>
            <a:ext cx="7810560" cy="42861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1042920" y="32274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666720" y="2533680"/>
            <a:ext cx="7810560" cy="17906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61920" y="1495440"/>
            <a:ext cx="9018720" cy="3867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7164360" y="289548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1014480" y="414972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5940360" y="4149720"/>
            <a:ext cx="287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414360" y="938160"/>
            <a:ext cx="8313840" cy="49816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611280" y="1600200"/>
            <a:ext cx="180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7020000" y="285264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611280" y="4121280"/>
            <a:ext cx="3529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23760" y="1623960"/>
            <a:ext cx="9094680" cy="36100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1403280" y="391968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4211640" y="3917880"/>
            <a:ext cx="4681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0:5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